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455E-AD95-4CF6-8A5B-51C2A18E91A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F788-2F37-4D97-B922-8A60836D26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23B-5C49-4755-BB62-2B9CB36B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3DF-4923-4824-AF66-ECD4CCCA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999-E246-4565-B781-59DC124B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110-B415-47BF-B35D-56A3E95B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49D-4E33-4E64-8CB6-689813D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71B-62BD-43D3-8C0F-528EDD3B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FA6-A7F5-451D-B178-1B8F0875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27C-833C-481C-BCBF-2CF88497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FC4-9058-4CA1-A51D-CF3FDCE7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4E3-E133-45DF-AB9B-A7DC3C8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B59-699B-4736-A449-71BBBC11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5DA-7EDB-416B-A341-DEBF1B62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3DC8-BD07-44D6-BCDD-34A04D1A5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85720" y="488880"/>
            <a:ext cx="3495600" cy="199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20823" t="12058" r="20184" b="30228"/>
          <a:stretch/>
        </p:blipFill>
        <p:spPr>
          <a:xfrm>
            <a:off x="15468480" y="396720"/>
            <a:ext cx="1793880" cy="175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33520" y="3616200"/>
            <a:ext cx="13441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600" spc="-1" strike="noStrike">
                <a:solidFill>
                  <a:srgbClr val="1d617a"/>
                </a:solidFill>
                <a:latin typeface="Poppins Bold Bold Italics"/>
              </a:rPr>
              <a:t>La Carta delle Città per il Diritto Umano all'Acqu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261040"/>
            <a:ext cx="11763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d617a"/>
                </a:solidFill>
                <a:latin typeface="Poppins Light Bold"/>
              </a:rPr>
              <a:t>Audizione presso la Commissione Affari Istituzionali e Città metropolitana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617a"/>
                </a:solidFill>
                <a:latin typeface="Poppins Light Bold"/>
              </a:rPr>
              <a:t>Milano 21/12/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78200" y="8582040"/>
            <a:ext cx="1472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d617a"/>
                </a:solidFill>
                <a:latin typeface="Poppins Light Bold"/>
              </a:rPr>
              <a:t>Rosario Lembo - Cinzia Thomareiz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617a"/>
                </a:solidFill>
                <a:latin typeface="Poppins Light Bold"/>
              </a:rPr>
              <a:t>Comitato Italiano Contratto Mondiale 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15430320" cy="10287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5486400" y="363600"/>
            <a:ext cx="5367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www.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581800" y="9201240"/>
            <a:ext cx="6610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segretariocicma@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495360"/>
            <a:ext cx="9937800" cy="49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03200" y="5732640"/>
            <a:ext cx="4203720" cy="420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57720" y="6227640"/>
            <a:ext cx="12549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INCLUSIV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accesso al minimo vitale (50 l/p/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ICUR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qualità dell'acqua e salute degli ecosist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SILIENT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riduzione consumi, prevenzione di scarsità idrica, contrasto ai cambiamenti cli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OSTENIBIL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Piani di Sicurezza dell'Acq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magine 4" descr="Immagine che contiene testo&#10;&#10;Descrizione generata automaticamente"/>
          <p:cNvPicPr/>
          <p:nvPr/>
        </p:nvPicPr>
        <p:blipFill>
          <a:blip r:embed="rId3"/>
          <a:stretch/>
        </p:blipFill>
        <p:spPr>
          <a:xfrm>
            <a:off x="909720" y="1028880"/>
            <a:ext cx="424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5087600" y="-1857600"/>
            <a:ext cx="5329800" cy="5641200"/>
            <a:chOff x="15087600" y="-1857600"/>
            <a:chExt cx="5329800" cy="5641200"/>
          </a:xfrm>
        </p:grpSpPr>
        <p:grpSp>
          <p:nvGrpSpPr>
            <p:cNvPr id="58" name="Group 3"/>
            <p:cNvGrpSpPr/>
            <p:nvPr/>
          </p:nvGrpSpPr>
          <p:grpSpPr>
            <a:xfrm>
              <a:off x="15087600" y="-1546200"/>
              <a:ext cx="5329800" cy="5329800"/>
              <a:chOff x="15087600" y="-1546200"/>
              <a:chExt cx="5329800" cy="5329800"/>
            </a:xfrm>
          </p:grpSpPr>
          <p:sp>
            <p:nvSpPr>
              <p:cNvPr id="59" name="Freeform 4"/>
              <p:cNvSpPr/>
              <p:nvPr/>
            </p:nvSpPr>
            <p:spPr>
              <a:xfrm rot="18900000">
                <a:off x="15644880" y="-54216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5"/>
            <p:cNvGrpSpPr/>
            <p:nvPr/>
          </p:nvGrpSpPr>
          <p:grpSpPr>
            <a:xfrm>
              <a:off x="15278400" y="-1857600"/>
              <a:ext cx="4163400" cy="4163760"/>
              <a:chOff x="15278400" y="-1857600"/>
              <a:chExt cx="4163400" cy="4163760"/>
            </a:xfrm>
          </p:grpSpPr>
          <p:sp>
            <p:nvSpPr>
              <p:cNvPr id="61" name="Freeform 6"/>
              <p:cNvSpPr/>
              <p:nvPr/>
            </p:nvSpPr>
            <p:spPr>
              <a:xfrm rot="18900000">
                <a:off x="16077240" y="-143676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Group 7"/>
          <p:cNvGrpSpPr/>
          <p:nvPr/>
        </p:nvGrpSpPr>
        <p:grpSpPr>
          <a:xfrm>
            <a:off x="-2114640" y="7758000"/>
            <a:ext cx="5329800" cy="5640840"/>
            <a:chOff x="-2114640" y="7758000"/>
            <a:chExt cx="5329800" cy="5640840"/>
          </a:xfrm>
        </p:grpSpPr>
        <p:grpSp>
          <p:nvGrpSpPr>
            <p:cNvPr id="63" name="Group 8"/>
            <p:cNvGrpSpPr/>
            <p:nvPr/>
          </p:nvGrpSpPr>
          <p:grpSpPr>
            <a:xfrm>
              <a:off x="-2114640" y="8069040"/>
              <a:ext cx="5329800" cy="5329800"/>
              <a:chOff x="-2114640" y="8069040"/>
              <a:chExt cx="5329800" cy="5329800"/>
            </a:xfrm>
          </p:grpSpPr>
          <p:sp>
            <p:nvSpPr>
              <p:cNvPr id="64" name="Freeform 9"/>
              <p:cNvSpPr/>
              <p:nvPr/>
            </p:nvSpPr>
            <p:spPr>
              <a:xfrm rot="18900000">
                <a:off x="-1557000" y="907272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-1923480" y="7758000"/>
              <a:ext cx="4163400" cy="4163760"/>
              <a:chOff x="-1923480" y="7758000"/>
              <a:chExt cx="4163400" cy="4163760"/>
            </a:xfrm>
          </p:grpSpPr>
          <p:sp>
            <p:nvSpPr>
              <p:cNvPr id="66" name="Freeform 11"/>
              <p:cNvSpPr/>
              <p:nvPr/>
            </p:nvSpPr>
            <p:spPr>
              <a:xfrm rot="18900000">
                <a:off x="-1124280" y="817848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12"/>
          <p:cNvGrpSpPr/>
          <p:nvPr/>
        </p:nvGrpSpPr>
        <p:grpSpPr>
          <a:xfrm>
            <a:off x="3057480" y="958680"/>
            <a:ext cx="3776760" cy="3776760"/>
            <a:chOff x="3057480" y="958680"/>
            <a:chExt cx="3776760" cy="3776760"/>
          </a:xfrm>
        </p:grpSpPr>
        <p:sp>
          <p:nvSpPr>
            <p:cNvPr id="68" name="Freeform 13"/>
            <p:cNvSpPr/>
            <p:nvPr/>
          </p:nvSpPr>
          <p:spPr>
            <a:xfrm>
              <a:off x="3057480" y="95868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4"/>
          <p:cNvSpPr/>
          <p:nvPr/>
        </p:nvSpPr>
        <p:spPr>
          <a:xfrm>
            <a:off x="3300480" y="1598760"/>
            <a:ext cx="3290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1 famiglia su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non si fida dell’acqua di rubinet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990720" y="2916360"/>
            <a:ext cx="15174720" cy="3866040"/>
            <a:chOff x="990720" y="2916360"/>
            <a:chExt cx="15174720" cy="3866040"/>
          </a:xfrm>
        </p:grpSpPr>
        <p:sp>
          <p:nvSpPr>
            <p:cNvPr id="71" name="TextBox 16"/>
            <p:cNvSpPr/>
            <p:nvPr/>
          </p:nvSpPr>
          <p:spPr>
            <a:xfrm>
              <a:off x="990720" y="2916360"/>
              <a:ext cx="15174720" cy="8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67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7"/>
            <p:cNvSpPr/>
            <p:nvPr/>
          </p:nvSpPr>
          <p:spPr>
            <a:xfrm>
              <a:off x="990720" y="3925440"/>
              <a:ext cx="1517472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8"/>
          <p:cNvSpPr/>
          <p:nvPr/>
        </p:nvSpPr>
        <p:spPr>
          <a:xfrm>
            <a:off x="2814480" y="5729400"/>
            <a:ext cx="1208880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L'accesso all'acqua e ai servizi igienici è un Diritto Umano riconosciuto dalle Nazioni Unite nel 20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Rapporto UN Water 2021 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sullo sviluppo idrico mondia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“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Il valore dell’acqua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Poppins Light"/>
              </a:rPr>
              <a:t>Ob. 6 non sarà raggiunto entro il 2030 se non si quadruplicano gli sforzi locali e inter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"/>
          <p:cNvPicPr/>
          <p:nvPr/>
        </p:nvPicPr>
        <p:blipFill>
          <a:blip r:embed="rId1"/>
          <a:stretch/>
        </p:blipFill>
        <p:spPr>
          <a:xfrm>
            <a:off x="7666200" y="2943360"/>
            <a:ext cx="2117520" cy="2117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0"/>
          <p:cNvGrpSpPr/>
          <p:nvPr/>
        </p:nvGrpSpPr>
        <p:grpSpPr>
          <a:xfrm>
            <a:off x="10542600" y="1050840"/>
            <a:ext cx="3776760" cy="3776760"/>
            <a:chOff x="10542600" y="1050840"/>
            <a:chExt cx="3776760" cy="3776760"/>
          </a:xfrm>
        </p:grpSpPr>
        <p:sp>
          <p:nvSpPr>
            <p:cNvPr id="76" name="Freeform 21"/>
            <p:cNvSpPr/>
            <p:nvPr/>
          </p:nvSpPr>
          <p:spPr>
            <a:xfrm>
              <a:off x="10542600" y="105084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2"/>
          <p:cNvSpPr/>
          <p:nvPr/>
        </p:nvSpPr>
        <p:spPr>
          <a:xfrm>
            <a:off x="10785600" y="1420920"/>
            <a:ext cx="329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Consumo acqua a Milano  300 l/p/g  Media naz. 215 l/p/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457360" y="374760"/>
            <a:ext cx="12855600" cy="3147840"/>
            <a:chOff x="2457360" y="374760"/>
            <a:chExt cx="12855600" cy="3147840"/>
          </a:xfrm>
        </p:grpSpPr>
        <p:sp>
          <p:nvSpPr>
            <p:cNvPr id="79" name="TextBox 3"/>
            <p:cNvSpPr/>
            <p:nvPr/>
          </p:nvSpPr>
          <p:spPr>
            <a:xfrm>
              <a:off x="3368520" y="2999880"/>
              <a:ext cx="110329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53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"/>
            <p:cNvSpPr/>
            <p:nvPr/>
          </p:nvSpPr>
          <p:spPr>
            <a:xfrm>
              <a:off x="2457360" y="374760"/>
              <a:ext cx="1285560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703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1d617a"/>
                  </a:solidFill>
                  <a:latin typeface="Poppins Bold Bold Italics"/>
                </a:rPr>
                <a:t>LA CARTA DELLE CITTA' PER IL DIRITTO UMANO ALL'ACQU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498680" y="4478400"/>
            <a:ext cx="2119320" cy="211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26240" y="4545000"/>
            <a:ext cx="2109600" cy="210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0144080" y="4495680"/>
            <a:ext cx="2098800" cy="209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14254200" y="4476600"/>
            <a:ext cx="2117520" cy="2117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2097000" y="2760840"/>
            <a:ext cx="13574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CQUA: modello di riferimento per calare gli SDGs su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401840" y="8518680"/>
            <a:ext cx="31766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9366120" y="849636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3352400" y="839484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996840" y="7013520"/>
            <a:ext cx="297684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 livello di minimo vitale gratuito per tutti e accesso negli spazi pubbl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3480920" y="7085160"/>
            <a:ext cx="39625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riduzione e riciclo plastica, riuso acque reflue, meteoriche, prevenzione eventi estr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9669600" y="7040520"/>
            <a:ext cx="304956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ozione dell'uso di acqua di rete, contrastando la sfidu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267160" y="7061040"/>
            <a:ext cx="341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raverso adozione di agende urbane o impegni specif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817640" y="1959120"/>
            <a:ext cx="3622680" cy="3620880"/>
            <a:chOff x="1817640" y="1959120"/>
            <a:chExt cx="3622680" cy="3620880"/>
          </a:xfrm>
        </p:grpSpPr>
        <p:sp>
          <p:nvSpPr>
            <p:cNvPr id="94" name="Freeform 3"/>
            <p:cNvSpPr/>
            <p:nvPr/>
          </p:nvSpPr>
          <p:spPr>
            <a:xfrm>
              <a:off x="1817640" y="1959120"/>
              <a:ext cx="3622680" cy="36208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"/>
          <p:cNvGrpSpPr/>
          <p:nvPr/>
        </p:nvGrpSpPr>
        <p:grpSpPr>
          <a:xfrm>
            <a:off x="7459560" y="1959120"/>
            <a:ext cx="3508560" cy="3508200"/>
            <a:chOff x="7459560" y="1959120"/>
            <a:chExt cx="3508560" cy="3508200"/>
          </a:xfrm>
        </p:grpSpPr>
        <p:sp>
          <p:nvSpPr>
            <p:cNvPr id="96" name="Freeform 5"/>
            <p:cNvSpPr/>
            <p:nvPr/>
          </p:nvSpPr>
          <p:spPr>
            <a:xfrm>
              <a:off x="7459560" y="1959120"/>
              <a:ext cx="350856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13068360" y="2071800"/>
            <a:ext cx="3510000" cy="3508200"/>
            <a:chOff x="13068360" y="2071800"/>
            <a:chExt cx="3510000" cy="3508200"/>
          </a:xfrm>
        </p:grpSpPr>
        <p:sp>
          <p:nvSpPr>
            <p:cNvPr id="98" name="Freeform 7"/>
            <p:cNvSpPr/>
            <p:nvPr/>
          </p:nvSpPr>
          <p:spPr>
            <a:xfrm>
              <a:off x="13068360" y="2071800"/>
              <a:ext cx="351000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374920" y="7020000"/>
            <a:ext cx="5773680" cy="2238480"/>
            <a:chOff x="2374920" y="7020000"/>
            <a:chExt cx="5773680" cy="2238480"/>
          </a:xfrm>
        </p:grpSpPr>
        <p:sp>
          <p:nvSpPr>
            <p:cNvPr id="100" name="Freeform 9"/>
            <p:cNvSpPr/>
            <p:nvPr/>
          </p:nvSpPr>
          <p:spPr>
            <a:xfrm>
              <a:off x="2374920" y="7020000"/>
              <a:ext cx="5773680" cy="2238480"/>
            </a:xfrm>
            <a:custGeom>
              <a:avLst/>
              <a:gdLst/>
              <a:ahLst/>
              <a:rect l="l" t="t" r="r" b="b"/>
              <a:pathLst>
                <a:path w="3203195" h="1241560">
                  <a:moveTo>
                    <a:pt x="0" y="0"/>
                  </a:moveTo>
                  <a:lnTo>
                    <a:pt x="3203195" y="0"/>
                  </a:lnTo>
                  <a:lnTo>
                    <a:pt x="3203195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0"/>
          <p:cNvSpPr/>
          <p:nvPr/>
        </p:nvSpPr>
        <p:spPr>
          <a:xfrm>
            <a:off x="539640" y="441360"/>
            <a:ext cx="167198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efe1"/>
                </a:solidFill>
                <a:latin typeface="Poppins Light Bold"/>
                <a:ea typeface="Arial"/>
              </a:rPr>
              <a:t>Sulla base di principi, che ne costituiscono la premessa, la Carta si articola su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3 LIVELLI DI IMPEGN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796160" y="2895480"/>
            <a:ext cx="28368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salvaguardare l’acqua come bene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2374920" y="2689200"/>
            <a:ext cx="25099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concretizzare il diritto umano a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3370040" y="2319480"/>
            <a:ext cx="2906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rea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la gestione pubblica, sostenibile e partecipata de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39640" y="598968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METODOLOG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0109160" y="7188120"/>
            <a:ext cx="5756400" cy="2054160"/>
            <a:chOff x="10109160" y="7188120"/>
            <a:chExt cx="5756400" cy="2054160"/>
          </a:xfrm>
        </p:grpSpPr>
        <p:sp>
          <p:nvSpPr>
            <p:cNvPr id="107" name="Freeform 16"/>
            <p:cNvSpPr/>
            <p:nvPr/>
          </p:nvSpPr>
          <p:spPr>
            <a:xfrm>
              <a:off x="10109160" y="7188120"/>
              <a:ext cx="5756400" cy="2054160"/>
            </a:xfrm>
            <a:custGeom>
              <a:avLst/>
              <a:gdLst/>
              <a:ahLst/>
              <a:rect l="l" t="t" r="r" b="b"/>
              <a:pathLst>
                <a:path w="3192961" h="1241560">
                  <a:moveTo>
                    <a:pt x="0" y="0"/>
                  </a:moveTo>
                  <a:lnTo>
                    <a:pt x="3192961" y="0"/>
                  </a:lnTo>
                  <a:lnTo>
                    <a:pt x="3192961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7"/>
          <p:cNvSpPr/>
          <p:nvPr/>
        </p:nvSpPr>
        <p:spPr>
          <a:xfrm>
            <a:off x="2849400" y="7583400"/>
            <a:ext cx="482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desione della Città ai principi dell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9610560" y="7267680"/>
            <a:ext cx="67518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Definizione di azioni specifiche:  gestione sostenibile di accesso universale, tutela della risorsa, partecipazione dei citta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66680" y="1930320"/>
            <a:ext cx="5719680" cy="6789960"/>
            <a:chOff x="166680" y="1930320"/>
            <a:chExt cx="5719680" cy="6789960"/>
          </a:xfrm>
        </p:grpSpPr>
        <p:sp>
          <p:nvSpPr>
            <p:cNvPr id="111" name="Freeform 3"/>
            <p:cNvSpPr/>
            <p:nvPr/>
          </p:nvSpPr>
          <p:spPr>
            <a:xfrm>
              <a:off x="166680" y="1930320"/>
              <a:ext cx="5719680" cy="678996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"/>
          <p:cNvGrpSpPr/>
          <p:nvPr/>
        </p:nvGrpSpPr>
        <p:grpSpPr>
          <a:xfrm>
            <a:off x="6162840" y="1930320"/>
            <a:ext cx="5746680" cy="6789960"/>
            <a:chOff x="6162840" y="1930320"/>
            <a:chExt cx="5746680" cy="6789960"/>
          </a:xfrm>
        </p:grpSpPr>
        <p:sp>
          <p:nvSpPr>
            <p:cNvPr id="113" name="Freeform 5"/>
            <p:cNvSpPr/>
            <p:nvPr/>
          </p:nvSpPr>
          <p:spPr>
            <a:xfrm>
              <a:off x="6162840" y="1930320"/>
              <a:ext cx="574668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"/>
          <p:cNvGrpSpPr/>
          <p:nvPr/>
        </p:nvGrpSpPr>
        <p:grpSpPr>
          <a:xfrm>
            <a:off x="12179160" y="1930320"/>
            <a:ext cx="5747040" cy="6789960"/>
            <a:chOff x="12179160" y="1930320"/>
            <a:chExt cx="5747040" cy="6789960"/>
          </a:xfrm>
        </p:grpSpPr>
        <p:sp>
          <p:nvSpPr>
            <p:cNvPr id="115" name="Freeform 7"/>
            <p:cNvSpPr/>
            <p:nvPr/>
          </p:nvSpPr>
          <p:spPr>
            <a:xfrm>
              <a:off x="12179160" y="1930320"/>
              <a:ext cx="574704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8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POSSIBILI AZION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95200" y="2187720"/>
            <a:ext cx="5461200" cy="63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Implementare negli spazi pubblici punti di erogazione acqua di rete e accesso ai servizi igienici di base (Dir.UE 2020/21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zioni di riduzione consumi di acqua di rete a 180 l/p/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6305400" y="2781360"/>
            <a:ext cx="5461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uovere utilizzo acqua di rete negli edifici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e negli </a:t>
            </a: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esercizi commercial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raccolta selettiva e riciclo PET negli edifici pubblici e privati (Dir. UE 2019/9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2322080" y="2803680"/>
            <a:ext cx="54612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strumenti di partecipazione dei cittadini (Consigli dei Cittadi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Comunicazione mirata per target, per aumentare fiducia nell'acqua di r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Riconoscimenti civici alle  migliori buone pratiche cittad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LA CARTA E' STATA PRESENTATA 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297000" y="1749600"/>
            <a:ext cx="5719680" cy="6787800"/>
            <a:chOff x="297000" y="1749600"/>
            <a:chExt cx="5719680" cy="6787800"/>
          </a:xfrm>
        </p:grpSpPr>
        <p:sp>
          <p:nvSpPr>
            <p:cNvPr id="122" name="Freeform 4"/>
            <p:cNvSpPr/>
            <p:nvPr/>
          </p:nvSpPr>
          <p:spPr>
            <a:xfrm>
              <a:off x="29700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6284880" y="1749600"/>
            <a:ext cx="5718240" cy="6787800"/>
            <a:chOff x="6284880" y="1749600"/>
            <a:chExt cx="5718240" cy="6787800"/>
          </a:xfrm>
        </p:grpSpPr>
        <p:sp>
          <p:nvSpPr>
            <p:cNvPr id="124" name="Freeform 6"/>
            <p:cNvSpPr/>
            <p:nvPr/>
          </p:nvSpPr>
          <p:spPr>
            <a:xfrm>
              <a:off x="6284880" y="1749600"/>
              <a:ext cx="571824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12203280" y="1749600"/>
            <a:ext cx="5719680" cy="6787800"/>
            <a:chOff x="12203280" y="1749600"/>
            <a:chExt cx="5719680" cy="6787800"/>
          </a:xfrm>
        </p:grpSpPr>
        <p:sp>
          <p:nvSpPr>
            <p:cNvPr id="126" name="Freeform 8"/>
            <p:cNvSpPr/>
            <p:nvPr/>
          </p:nvSpPr>
          <p:spPr>
            <a:xfrm>
              <a:off x="1220328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9"/>
          <p:cNvSpPr/>
          <p:nvPr/>
        </p:nvSpPr>
        <p:spPr>
          <a:xfrm>
            <a:off x="539640" y="2308320"/>
            <a:ext cx="52516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MILANO E PALER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Milano </a:t>
            </a:r>
            <a:r>
              <a:rPr b="0" lang="it-IT" sz="3200" spc="-1" strike="noStrike">
                <a:solidFill>
                  <a:srgbClr val="ffffff"/>
                </a:solidFill>
                <a:latin typeface="Poppins Light"/>
                <a:ea typeface="Arial"/>
              </a:rPr>
              <a:t>(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ss. Ambiente, Ass. Partecipazione, Milan Food Policy, Progetto Città Resili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TO Città Metropolit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MM e Cap H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Palermo e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Poppins Light Bold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6649920" y="2308320"/>
            <a:ext cx="49881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RETI DI CITTA</a:t>
            </a:r>
            <a:r>
              <a:rPr b="0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gende 21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te Città S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n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​</a:t>
            </a: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Enti Locali per la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2501720" y="2308320"/>
            <a:ext cx="51228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AGEND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Urban@it, Centro ricerca di politich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genda Urbana Sviluppo Sostenibile ASviS 2019, 2020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Raccomandazioni  Rapporto ASviS 2020 e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6026040" y="1143000"/>
            <a:ext cx="2573280" cy="2575080"/>
            <a:chOff x="6026040" y="1143000"/>
            <a:chExt cx="2573280" cy="2575080"/>
          </a:xfrm>
        </p:grpSpPr>
        <p:sp>
          <p:nvSpPr>
            <p:cNvPr id="131" name="Freeform 3"/>
            <p:cNvSpPr/>
            <p:nvPr/>
          </p:nvSpPr>
          <p:spPr>
            <a:xfrm>
              <a:off x="6026040" y="1143000"/>
              <a:ext cx="25732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"/>
          <p:cNvGrpSpPr/>
          <p:nvPr/>
        </p:nvGrpSpPr>
        <p:grpSpPr>
          <a:xfrm>
            <a:off x="9144000" y="1143000"/>
            <a:ext cx="2575080" cy="2575080"/>
            <a:chOff x="9144000" y="1143000"/>
            <a:chExt cx="2575080" cy="2575080"/>
          </a:xfrm>
        </p:grpSpPr>
        <p:sp>
          <p:nvSpPr>
            <p:cNvPr id="133" name="Freeform 5"/>
            <p:cNvSpPr/>
            <p:nvPr/>
          </p:nvSpPr>
          <p:spPr>
            <a:xfrm>
              <a:off x="9144000" y="1143000"/>
              <a:ext cx="25750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14400" y="5546880"/>
            <a:ext cx="7843680" cy="4411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398520" y="431640"/>
            <a:ext cx="16719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Metodologia : TAVOLI MULTI STAKEHOLDER sull'ACQU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243480" y="1562040"/>
            <a:ext cx="213840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territoriali sull'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9675720" y="1820880"/>
            <a:ext cx="15098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in 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270000" y="3994200"/>
            <a:ext cx="167194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Il tavolo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"Acqua, città e riduzione della plastic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8926560" y="5477040"/>
            <a:ext cx="898848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20 stakeholder coinvol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4 tipologi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Istituzioni pubblic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Gestori del SII e rifiu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Universit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Organizzazioni della Società Civ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762120" y="1887480"/>
            <a:ext cx="5657760" cy="2178000"/>
            <a:chOff x="762120" y="1887480"/>
            <a:chExt cx="5657760" cy="2178000"/>
          </a:xfrm>
        </p:grpSpPr>
        <p:sp>
          <p:nvSpPr>
            <p:cNvPr id="141" name="Freeform 3"/>
            <p:cNvSpPr/>
            <p:nvPr/>
          </p:nvSpPr>
          <p:spPr>
            <a:xfrm>
              <a:off x="762120" y="188748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4"/>
          <p:cNvSpPr/>
          <p:nvPr/>
        </p:nvSpPr>
        <p:spPr>
          <a:xfrm>
            <a:off x="392040" y="4130640"/>
            <a:ext cx="17133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1c2a2"/>
                </a:solidFill>
                <a:latin typeface="Poppins Bold Bold"/>
                <a:ea typeface="Arial"/>
              </a:rPr>
              <a:t>PROGETTO BeviM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70040" y="1773360"/>
            <a:ext cx="542124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Part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Bicocca Statale Politec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icma con contributo di Fond. Cariplo e Cori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11437920" y="1816200"/>
            <a:ext cx="5657760" cy="2178000"/>
            <a:chOff x="11437920" y="1816200"/>
            <a:chExt cx="5657760" cy="2178000"/>
          </a:xfrm>
        </p:grpSpPr>
        <p:sp>
          <p:nvSpPr>
            <p:cNvPr id="145" name="Freeform 7"/>
            <p:cNvSpPr/>
            <p:nvPr/>
          </p:nvSpPr>
          <p:spPr>
            <a:xfrm>
              <a:off x="11437920" y="181620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8"/>
          <p:cNvSpPr/>
          <p:nvPr/>
        </p:nvSpPr>
        <p:spPr>
          <a:xfrm>
            <a:off x="11522160" y="1720800"/>
            <a:ext cx="56577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pp BeviMI: 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misura riduzione CO</a:t>
            </a:r>
            <a:r>
              <a:rPr b="0" lang="en-US" sz="2800" spc="-1" strike="noStrike">
                <a:solidFill>
                  <a:srgbClr val="1d617a"/>
                </a:solidFill>
                <a:latin typeface="Calibri"/>
                <a:ea typeface="Calibri"/>
              </a:rPr>
              <a:t>₂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e Pet risparm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Ecocompattatore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: volume P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762120" y="4978440"/>
            <a:ext cx="5657760" cy="2176560"/>
            <a:chOff x="762120" y="4978440"/>
            <a:chExt cx="5657760" cy="2176560"/>
          </a:xfrm>
        </p:grpSpPr>
        <p:sp>
          <p:nvSpPr>
            <p:cNvPr id="148" name="Freeform 10"/>
            <p:cNvSpPr/>
            <p:nvPr/>
          </p:nvSpPr>
          <p:spPr>
            <a:xfrm>
              <a:off x="762120" y="4978440"/>
              <a:ext cx="565776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1"/>
          <p:cNvSpPr/>
          <p:nvPr/>
        </p:nvSpPr>
        <p:spPr>
          <a:xfrm>
            <a:off x="893880" y="5180040"/>
            <a:ext cx="561636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2 Obiettivi</a:t>
            </a: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Promozione acqua di r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duzione e riciclo 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11423520" y="4870440"/>
            <a:ext cx="5658120" cy="2176560"/>
            <a:chOff x="11423520" y="4870440"/>
            <a:chExt cx="5658120" cy="2176560"/>
          </a:xfrm>
        </p:grpSpPr>
        <p:sp>
          <p:nvSpPr>
            <p:cNvPr id="151" name="Freeform 13"/>
            <p:cNvSpPr/>
            <p:nvPr/>
          </p:nvSpPr>
          <p:spPr>
            <a:xfrm>
              <a:off x="11423520" y="4870440"/>
              <a:ext cx="565812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11423520" y="4778280"/>
            <a:ext cx="5478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Outp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Ricerca</a:t>
            </a: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 interuniversitaria su impatto ambi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ertificazione su Block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6251400" y="7818480"/>
            <a:ext cx="5658120" cy="2178000"/>
            <a:chOff x="6251400" y="7818480"/>
            <a:chExt cx="5658120" cy="2178000"/>
          </a:xfrm>
        </p:grpSpPr>
        <p:sp>
          <p:nvSpPr>
            <p:cNvPr id="154" name="Freeform 16"/>
            <p:cNvSpPr/>
            <p:nvPr/>
          </p:nvSpPr>
          <p:spPr>
            <a:xfrm>
              <a:off x="6251400" y="7818480"/>
              <a:ext cx="565812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17"/>
          <p:cNvSpPr/>
          <p:nvPr/>
        </p:nvSpPr>
        <p:spPr>
          <a:xfrm>
            <a:off x="6384960" y="7778880"/>
            <a:ext cx="56577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Tar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150.000 studenti/person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conoscimenti civi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ai migliori comportam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magine 2" descr=""/>
          <p:cNvPicPr/>
          <p:nvPr/>
        </p:nvPicPr>
        <p:blipFill>
          <a:blip r:embed="rId1"/>
          <a:stretch/>
        </p:blipFill>
        <p:spPr>
          <a:xfrm>
            <a:off x="7643880" y="490680"/>
            <a:ext cx="2654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inzia</dc:creator>
  <dc:description/>
  <dc:language>en-US</dc:language>
  <cp:lastModifiedBy>Rosario Lembo</cp:lastModifiedBy>
  <dcterms:modified xsi:type="dcterms:W3CDTF">2021-12-20T10:29:38Z</dcterms:modified>
  <cp:revision>47</cp:revision>
  <dc:subject/>
  <dc:title>Copia di definitivo</dc:title>
</cp:coreProperties>
</file>